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C1B9-E41B-41AE-A427-C3D5D500F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F37E-D1C4-47D6-A375-D9B9A2766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0DFB-8E61-48E6-8A44-D817EA8F4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AA8D-42EA-4FCB-90D4-F1409AF54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CF45-1E13-4907-BE0D-F6ECD747D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67BD-3BB1-4305-AB07-32F373824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B42E-0CA3-46C9-B8D9-C7C432B4F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7FFF-A141-4B1C-992A-DC8A715B3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12DF-423B-48F4-8319-2F870C4BD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8328-E319-4CC8-99B2-41F20DCFD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28D3-306D-429F-B1A0-E1849DB73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7068-DBA8-4729-B1E6-E45C2D93F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6EC-F3AF-4A07-B56A-9B15AA312B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8CF-227C-48BA-91F3-7B2EFB878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EE7-AA43-4A4E-A737-D94BFDF514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5C9-FF84-40C3-95DC-8C53CAB09B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FB4-DCAC-4619-86AA-C45688D67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25D-E755-4246-BB5A-89DC04B3E1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148E-6776-4520-824F-06B3516E9B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60F-9424-4420-A894-A40021D865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B20-197B-47E1-A0D7-571AB9758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F7A-235F-4D7B-81B8-A6B279EE42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4A3-7860-4832-911D-5AC6695442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7E8E-A90C-4DD5-AB3C-4A2A6F770B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EF5B-434F-4869-B819-64E3ED5BA8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62B5-38B2-45C7-9B37-68B4A78270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837-5EF8-41A9-B406-9A283FC5B7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D2D-36C0-4707-A8BA-88EEAA8849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8844-C38C-4C94-A63A-4AFF04E444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4026-CCE8-4789-A103-94C613F84E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034-C185-4858-A7D3-D446A58689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D87B-CE4B-4499-9EC2-E85DC927C9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D40-89ED-409B-9542-91B27D2204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808-F377-45F7-B66E-5827A701FA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2207-072A-496B-9748-AED1AF8C37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29F-0F4D-4B81-ABB5-1262666749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09:50Z</dcterms:modified>
  <cp:revision>29</cp:revision>
  <dc:subject/>
  <dc:title>&lt;Title&gt;</dc:title>
</cp:coreProperties>
</file>